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247-716E-4828-BDEF-BE3FE46A9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0E25-26AA-423F-A30F-93671B3F9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D40-CAB5-410D-AEE1-982E4041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076-7FF0-4227-B6F5-045AAC0B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259-24F2-4F74-84A4-C4EA08A4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439-20B0-42C8-BECF-8E18ABF9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B38-B3A8-4AE0-B923-62E05DD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063-36A6-4E70-A075-BDC765CD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24C-FE8E-4093-98A3-359FE649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ACE-542F-4641-BD27-8B3EB034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A2B-6DD1-44FE-9DC9-E2420463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9F5-0CE4-4296-B566-0979317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C3A-C4AB-4C3A-B504-EB8D304E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C3E-87BE-4E48-95B5-C1C1AA7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D95-BF6C-48F8-8BA8-B2F7872906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30"/>
          <p:cNvSpPr/>
          <p:nvPr/>
        </p:nvSpPr>
        <p:spPr>
          <a:xfrm>
            <a:off x="1523880" y="202392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33"/>
          <p:cNvSpPr/>
          <p:nvPr/>
        </p:nvSpPr>
        <p:spPr>
          <a:xfrm>
            <a:off x="1676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34"/>
          <p:cNvSpPr/>
          <p:nvPr/>
        </p:nvSpPr>
        <p:spPr>
          <a:xfrm>
            <a:off x="914400" y="14479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ообразование учителей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еб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 современному урок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рамках  внедрения  ФГ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35"/>
          <p:cNvSpPr/>
          <p:nvPr/>
        </p:nvSpPr>
        <p:spPr>
          <a:xfrm>
            <a:off x="3355920" y="402552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Настоящи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начинается не со зв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da023"/>
                </a:solidFill>
                <a:latin typeface="Arial"/>
              </a:rPr>
              <a:t>а задолго до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9662625477fb"/>
          <p:cNvPicPr/>
          <p:nvPr/>
        </p:nvPicPr>
        <p:blipFill>
          <a:blip r:embed="rId2"/>
          <a:stretch/>
        </p:blipFill>
        <p:spPr>
          <a:xfrm>
            <a:off x="6535800" y="5221440"/>
            <a:ext cx="26686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который развивает у детей креативное мышл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который воспитывает думающего ученика-интеллектуа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который предполагает сотрудничество, взаимопонимание, атмосферу радости и увлеченнос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04920" y="2178360"/>
            <a:ext cx="8610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a2b1e"/>
                </a:solidFill>
                <a:latin typeface="Arial"/>
              </a:rPr>
              <a:t>Урок должен быть пронизан творче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a2b1e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aa2b1e"/>
                </a:solidFill>
                <a:latin typeface="Arial"/>
              </a:rPr>
              <a:t>и вместе с тем оставаться ур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ff"/>
                </a:solidFill>
                <a:latin typeface="Arial"/>
              </a:rPr>
              <a:t>                      </a:t>
            </a:r>
            <a:r>
              <a:rPr b="1" lang="ru-RU" sz="3000" spc="-1" strike="noStrike">
                <a:solidFill>
                  <a:srgbClr val="0066ff"/>
                </a:solidFill>
                <a:latin typeface="Arial"/>
              </a:rPr>
              <a:t>С.И.Гес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ученик"/>
          <p:cNvPicPr/>
          <p:nvPr/>
        </p:nvPicPr>
        <p:blipFill>
          <a:blip r:embed="rId1"/>
          <a:stretch/>
        </p:blipFill>
        <p:spPr>
          <a:xfrm>
            <a:off x="693432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учитель"/>
          <p:cNvPicPr/>
          <p:nvPr/>
        </p:nvPicPr>
        <p:blipFill>
          <a:blip r:embed="rId2"/>
          <a:stretch/>
        </p:blipFill>
        <p:spPr>
          <a:xfrm>
            <a:off x="152280" y="152280"/>
            <a:ext cx="20574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едагогического сове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выступивших принять к свед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самообразование учителей по ведению уроков  в  рамках внедрения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уроки в соответствии с  требованиями к современному уроку в рамках внедрения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амятку учителя «Требования к современному уроку в рамках внедрения ФГОС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ть уроки коллег, владеющих методикой преподавания в соответствии с основными требованиями современного урока в рамках внедрения ФГ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и планомерную и интенсивную работу по подготовке обучающихся к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ыполнения решений педагогического совета провести не позднее  мая 2014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5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вестка педагогического совета</a:t>
            </a:r>
            <a:br>
              <a:rPr sz="24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Требования к современному уроку в рамках внедрения ФГОС»</a:t>
            </a:r>
            <a:br>
              <a:rPr sz="2800"/>
            </a:br>
            <a:r>
              <a:rPr b="1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6 марта 2014 года</a:t>
            </a:r>
            <a:br>
              <a:rPr sz="2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современному урок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амках  внедрения  ФГОС</a:t>
            </a:r>
            <a:br>
              <a:rPr sz="3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1371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лясевой С.А., заместитель директора по метод. рабо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маловой Г.Р., учитель татар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айровой З.Д., 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дуллиной Э.Ф., учитель татар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евой Э.Р., учитель татар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евой Р.Н., учитель русского языка и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овиковой Л.Н., 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качества  знаний и успеваемости учащихс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3 четверть 2013-14 учебного год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я заместителей директора Шариповой Г.А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севой  С.А. и Махмутовой Г.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дготовка к  ЕГЭ и ГИ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 заместителя директора  Махмутовой Г.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  </a:t>
            </a:r>
            <a:r>
              <a:rPr b="1" lang="tt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ожения о  школьном сайте МБОУ «СО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№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» и  «Положения о дежурстве  в  МБОУ «СОШ №7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з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изн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браз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ротяжен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й жизн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a2b1e"/>
                </a:solidFill>
                <a:latin typeface="Arial"/>
              </a:rPr>
              <a:t>Что способствует успеху уро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хорошее знание материал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ое самочувстви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думанный план уро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увство «физической» раскованност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вободы  на урок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вильный выбор методов обуч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нообразие методов обуч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нимательность изложени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ярко выраженное эмоциональное отношени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я к излагаемому материал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гатство интонаций, выразитель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мика, образная  жестикуляция учител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раженная заинтересованность учител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успехе учен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с использование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2133720"/>
            <a:ext cx="8305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на котором осуществляется индивидуальный подход к каждому ученик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содержащий разные виды деятельно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на котором  ученику должно быть комфорт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54675"/>
                </a:solidFill>
                <a:latin typeface="Mistral"/>
              </a:rPr>
              <a:t>Современный урок - эт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43828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на котором деятельность должна стимулировать развитие познавательной активности учени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Светлана</cp:lastModifiedBy>
  <dcterms:modified xsi:type="dcterms:W3CDTF">2014-12-05T16:08:56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